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1F4-1C3C-477F-A75E-7BD37E19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3A2-E01E-42F3-8485-5C43734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B57F2-8168-4086-BEBD-F7D4622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8AA0-46B0-429E-BB0C-028F415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713F3-87D6-46E7-8489-3CE9C4C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5BFE6-C9A4-4DF8-9A7D-84062FF2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112CD-B0A7-4822-9276-08D3CA8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9EFD3-A213-4D53-81BE-AF2ACA2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90B6D-0C3C-40C5-BF19-1B065EF9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830D-05DA-48A8-B0F4-7D1A2728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07300-8147-4660-8545-551F3A12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68EB0-7A0B-4BA3-B6FB-384EFD4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386-BA75-44EA-BCDE-4031FFD3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3C30-D870-4134-A653-74C184F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DFE1B-4EE3-414E-A9F7-2CB9B168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AC356-12A8-4C11-8650-C69F796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0C6E6-389E-44C4-94DC-C318A16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0B5A6-EC8A-4E1F-8D79-38D5858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5F2BB-F0DD-4F9B-A6B9-1785FB8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EE50-0BEA-4B52-B305-C3C8FFD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7D2B8-6D4C-443F-86F7-843131A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AE70-F179-42D2-85D6-86DE6BF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34C29-68FF-4E7B-92CA-6029F93D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732-5A8E-4A49-97CF-56CABD88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28F6-0961-48CB-97B7-869FEC2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1BA2C-81D7-443B-9B71-0472C868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BD01D-40F1-4659-9B88-D54FFADD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C53E7-15B5-454F-A42B-4C53F92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09DD7-5519-41ED-948F-CC056AB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7CCAB-518D-4620-8242-3787A8FF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F4D7-DF7D-450D-BB5E-A383A92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6399-0C1C-4137-AE8E-E8E4504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729E4-42FE-4529-A487-02F0C76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8207D-7B25-4D90-A318-31CAEB1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24B-A6AA-4F19-B1B7-7CBEBB6D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D1647-6E1A-4124-B5AD-249E8D8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6A942-9DE3-4148-85D0-21A533D2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2A3C-6706-44F2-86EC-24DE7ACD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B4051-F77A-4C2A-965A-D9C98431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886E-A575-4BFA-848F-491DA345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42791-1CF1-41A1-BC31-B600CB2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821CF-FA7F-489A-B31E-6D20F3B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DA6ED-31F1-431F-B308-4774E72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DA5CF-6708-49A0-9FB1-B22CD7F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05536-E2E5-43F7-93CB-8DC1EBA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968-9F3D-46F1-AFE8-EC96ADB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0FA54-30FC-445A-905F-7B30B4C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6A857-0CFA-4D26-98E4-2621157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947F5-1D38-402D-B75A-A9FD99F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3C85D-11CF-4DEE-8DA6-E5AFF4FD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E769D-0483-438B-B2E1-4AE5E89B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E963-10C1-40C4-A639-1532825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CFAB-B553-4CD1-95C3-CFCCC6A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181-C427-4C74-B191-6C94E25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66E-9AB2-4A35-9951-9CB15E5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23B-AEAF-4C18-8EF8-49EEDC7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965-1C73-49A4-A574-4E38268D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82A0-5699-4AF6-966E-E2B9DAD5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E89-0D42-43D6-AF1D-C447901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4AC-8792-43E1-A749-3E4C39B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B600-BDFB-4796-B315-E2F4B440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E2F-9407-41F2-B53F-4340CF09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E510-39D2-4A20-A571-D20D7854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4FEC-3BFE-4956-8C0E-03044A7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06F6-C9B9-4658-9904-D04E5E12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2DAF-6480-4F4C-82F6-3F636CD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4473-4400-48E2-B400-3512D501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E83-C8D2-4665-B09C-4057B968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8AA2-8AF7-4347-ACC0-E4DCE90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9825-52DE-4B90-9F0A-700D183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80A0-BFDA-4D72-AD34-A736F9E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355C-101B-4CE7-A2E7-4516846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600B-A414-4F17-8409-1530AFF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CBB2-6877-40DF-B648-D6C803D0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2AB6-70CF-4EB2-959A-BF2B8785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3972-3D4C-4C5C-BF7D-5E31323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F9EF-44A2-4D4B-AE98-E665335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5076-7AD5-4BFF-BA0A-4B82EFED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F0D-6B88-41CA-A16B-2D44555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8334-BBA3-49D0-9761-6145D6DD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2040-66B4-44E2-AE73-AEA1123E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5FC4-270C-4BFD-A06F-E4D555AC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9A4F-87DE-4E77-BFB0-3556850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B14A-62C8-4C95-89D5-5ED101F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11A5-F866-4E9F-BE81-5895C53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962C-1B5B-4F78-8D02-192ACC0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9590-5B89-4999-8456-66A6FB96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2021-35E0-4A7F-B647-A8E7D66B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2C34A-6FFC-41C7-83C7-6E6368FC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190-E96E-4FEB-9E7E-F22BAC3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CE36-6237-4920-9041-314BAFE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4119-D713-402C-821D-12DEB49C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33C6-3E66-41DC-97D7-7B76DCB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036D-A053-45E2-B362-44E0058D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DBE5-4D15-4B09-BD79-29B5790E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3A4C-C747-46F1-BC07-287137D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812C-8E09-4DBF-AEE0-B7E7BD4A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B995-51FE-4C13-BCFF-E288C905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88F7-EE0A-4B70-9D8F-CD0BAA7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4792-9944-4DFE-96C2-91D685F4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D2D-3112-4BD8-A186-18976E5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B02C-3C84-4FCE-98DA-EAB260EB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94B7-FCDD-4C98-8CC8-E6599504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8BCC-965D-4EA7-950C-54AAD72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DC18-1DA4-4C78-914A-8A83D6A2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EABB-8D62-4FD6-8F6A-78CBEB6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3EC31-8535-41D9-8924-F532A68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CC6C9-85DE-426E-8BDF-4608DA5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1E0B-DC6D-43CF-A796-292FBCF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6C14-9204-4090-A3AC-316E35C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D197-5AEC-421E-906A-8E0D76D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243-DA1E-495F-A0C2-A1DD31D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7F6E-4A16-4DED-B6F5-CA97A126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289A-8921-4427-94B4-F834A3B8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806C-F7CB-4546-A284-EA853F29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B451-95DA-49EE-862B-CA6D1D1C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11B2D-8171-4F4A-8B4F-CC08BE3D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F2F3-7777-4CCE-8A9F-448A2F31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6889-14EB-42C3-BC54-E640EF51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1C88-F66A-4504-ADFF-D13CA46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11336-C3DB-4A1A-95FC-2089E5CD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A422-261A-42E1-A6A0-FBB41BF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2C5-E233-4115-81A8-4DFD1395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F9BD2-2A79-4CD5-A053-94E6A2F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DC20-E21C-4640-A9D9-685CB03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B3B64-7C91-438E-B035-BE9F208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09CE-C462-4113-9947-0DDFFEAB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02A4-9CB5-4F84-A52B-EBE44BD7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DCE0-ACB0-4B79-AA6C-D32EEDF9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307E-667E-402F-AD25-63A4540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092CF-28FF-49E9-BF86-BD5D4FD1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ADD5-5685-455E-8D59-C54C2D8A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83C0C-0E1E-403C-9BED-6130D2D0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3B3-5CBA-4CE9-9F50-DD8C86D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0110-61C3-480A-96C2-3D59A93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9804-BFF6-4473-9ACF-7951FA8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3E72-AC9A-48C7-8A48-4E0B70B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9E29-C18F-4B3E-930A-06E26F3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6A496-FE26-4AD5-A08C-E7BBC85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FC6A-68C1-40C3-8D56-8D7F1D5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AB2F-3A6A-46E5-AD27-2273D13A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E40C7-5DC1-4077-BD6D-7E90B2CE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81F42-9B8E-4F36-B75A-866EF0B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480B1-84D3-4DFA-922E-8181AF4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51C-17F2-49F6-940F-67AD86260E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D19-E0F1-4337-BE92-5A72A75BB8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95B-9BFF-47A3-B55D-74EF09F63B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939-2D25-482A-96E7-D9E606DBE8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2CA-9B8D-47F6-9F4A-B45E10AE65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0A73-241E-485D-A5F8-1C42DE5FC0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4012-1E45-4087-A60E-8FC896321B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055-DBD6-48E3-A9B3-0FC6371F0C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FAC-CA48-4815-8934-33BD5BB9FD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65B-F23E-4A18-8080-DA719E980A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E1D-0D2B-4D1C-90EF-A2847177C6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D98-B353-4A0E-8B3D-7503E955FE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384 Chceš kresťanom sa stať 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už v mladosti?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v svete každá sl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chuť bôľu zanech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milosť požehnáv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š slúžiť Pánov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 mladosti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Chceš slúžiť Pánov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už v mladost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teba prišiel z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rchu kríža vzal na s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láske pamätá na teba 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ladost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ve ťa milosti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láskou úzkostli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bá o teba starostli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eho rozhodni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mladosti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re neho rozhodni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budeš s Kristom chod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e bude satan zvod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ti potom môže škod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ladosti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0:42Z</dcterms:modified>
  <cp:revision>86</cp:revision>
  <dc:subject/>
  <dc:title>Je veľký náš Pán, on slávy je Kráľ Nech do všetkých strán  spev vrúcnych znie chvál.</dc:title>
</cp:coreProperties>
</file>